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388-D1C1-497E-AA92-5F56A225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697-F8E1-4F10-B911-E69D384E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A8161-08E7-4F6A-B95B-206BC1E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24B2-3BC9-4145-A756-E729E18D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A0BB5-6757-4AFA-9135-13C8631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24395-8FE6-4715-AA77-54030C4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0C21-BA8B-46ED-B84A-D97FB00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9AD5-0A90-4427-A88D-F42EB9A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EE3E8-54F5-49FF-902C-60ACA28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E34F5-D6B9-4B2A-B524-D67BAF3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1A471-2758-4DC0-9638-B889E48E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7E08A-F957-47AD-A8B3-D8FE6098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914-3B35-4EBB-BB04-9EA2A141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8C4C9-1835-42AC-9B6A-C5BB5271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EEF98-F3F6-4566-B65B-B2FE14C3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AF92E-1689-4511-A740-5512375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8932-6F77-4FC3-86DB-24587D4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115B8-0031-4873-9F60-AA5F7EB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A0BF1-1788-4596-8DC6-3BD280FB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764F-B196-4C52-9265-E610BF5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3C3F1-D565-4B06-BCDE-8D65944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A38E4-923D-48FA-AC9B-32A75FC0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3D8A6-C290-4BF8-8A2D-BE26F103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EE0-834F-45B4-8CDD-5CAE6A81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7B06B-D89C-492C-8EDF-F35B382E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8C937-45EF-4F10-804E-5EE61653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F015-6D96-4FEA-B8BF-B7113E12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81CD-A3CD-4D6A-A0AA-3E445762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7660E-3B57-4DB9-81CB-4F53A2E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9C252-7B5F-499F-B41B-856D1A87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B5CD4-9E65-473A-92F4-F4A6634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4CC4D-97E3-4706-A3DB-8C891B3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0964-B0B3-46A8-8419-AF9BF9F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72CBC-32B3-4CA6-83B0-93AA232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CD96-F82B-4D0B-96EF-919548F6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0B96-4621-41FE-9927-8F3F674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D85F1-D5A8-4BB5-A17A-C316D7EA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E959-D8AD-4652-A2AA-EE4F2B6F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552C3-B7FF-448F-9C34-DEB1AC5F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39956-C99C-49BC-8499-C0251EC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99A19-E7D0-449B-8FD7-9C2CCF91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FDB2F-E976-4CDE-BE2D-5F399EED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F1BF1-BBA4-464B-9C52-988CA46D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1A414-57CE-46CB-A9F8-C837A4EA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5A522-5AF5-4E10-B558-FDBFEE8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5C96-A53E-44D6-939E-A33A444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C7228-59D2-42D5-BE71-361C556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CADFF-564E-4AAC-8438-C6C42D2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1A4E9-1A54-4EB8-AFF4-4E3A1B27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E3B16-CC51-405A-A2CA-028D8A0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46437-EAC3-4A6C-AD7E-E1BBBC0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94C96-5818-4E8F-A133-CC41802E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B044D-1158-4AA6-B9AF-CAF45A7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55C12-64F3-4114-AF61-B6C3502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606FC-4FA4-4000-829D-18B414C0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1BDEC-1BBD-477D-BEF9-6941C47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90D-43E4-4253-A172-F027AEB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9F97C-CD27-464D-9941-E9C5E2C6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59DDA-4503-4605-B743-2FCC7A5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7E52C-CD3C-4C20-A9F3-74FC0EC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292D8-5643-4508-92F6-A77C034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BC72C-9CD7-4F5B-9801-3E8FBAF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ABD2C-887F-44A8-8B0E-C8E67BF2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8CB24-B65B-4837-8DA3-41F49EBB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C0EAD-0F46-43F0-9023-BA5E6A3A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D96D9-E300-42EE-98E8-64B2ABD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BB84F-81C0-44DA-BA7D-01CC7EC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AA2-9483-41F6-B452-0A3E2EA0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527B2-3C93-40F7-AD4A-B6AC00E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B4959-BCBE-40C3-B88A-39C6BE2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55F04-85BC-4882-9607-930EE90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76EEB-D948-402A-AA4C-699AA17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AF7BC-BE91-4F21-81DD-F63A367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C3C2D-D00E-44A6-95E1-2955158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B46AE-8188-4C66-8892-FD24A7E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EEA95-D162-4545-A37E-D654BA6D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DF09F-DF85-464B-B832-59207B72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42A24-D46B-4D72-A71A-0C581248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E2F2-8978-4465-B5D5-F38265A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E65E7-BADC-4151-A51A-9E67011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0F305-F53E-48CC-A983-0E91919E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A39AA-AD9E-447D-9D3F-6BBC1AC7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510A2-A74F-44BA-8E44-6D6E910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9B18A-FBA9-419C-9580-0FDE0C6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0569F-3137-49C9-B439-56AA6D6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E69F3-713B-48E8-A52E-F2CD787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22143-4F6F-430D-94BA-BCC89DC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80858-41F2-4E52-9497-033B774A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92750-7F75-428F-975E-77C08913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1F97-737A-4E6C-93E7-CCF207D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F7B2F-11BA-4964-8C97-800B1B80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B2153-B87A-4778-A63E-27CB5710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C690E-1549-4C50-8400-E92EFC0F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2F743-81FE-4201-91FD-3E201AA0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12F5A-00EF-4AC9-9EA7-6519B4E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4EFC4-C5F4-40AA-9F8D-4360125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93D71-8A09-42B6-9559-F4939A2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75A04-E1EE-44C8-868E-1B352F3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2EAD1-38AE-45F3-B988-9D5B2F2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402CA-840C-404C-89B7-AF48537D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35E1-600A-4AC5-B563-0585309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85156-25D8-4475-AD61-53345900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D1C19-AE2F-4832-BB3A-2D5DDCFE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F99A5-EB91-4828-A9CD-246A404A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2BDCC-ACE7-4F74-BCDE-70815F8B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1A0A9-7E64-4A9E-837B-D8625C6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464BA-234A-4993-A20E-D24129F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E8EAD-6209-41F3-9DD5-1B2E504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093F7-F523-48B3-A4B5-CC50E46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D08C6-AF6C-49CA-AFDC-470B75A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5A224-414A-4220-8C3F-9446215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460-4C46-404D-82A4-F584B9A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3EE-D467-4A2E-95C4-96077B94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EBA93-1C1C-4BDC-9742-28C84F4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A81FE-A17F-4D32-9C83-682CD1A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6DD2F-2861-4D9A-9BCA-1AF7D23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701F5-CB29-479F-BB5A-97FEDBBF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4BA35-B9A4-4455-8DD4-BF3E3A33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B05C0-0AE2-44CE-8694-E4D0C75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5374A-1D68-4B4F-B96A-6D34BEB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8C771-ECD2-48BC-93B2-138301A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3C66B-7949-4C7A-A702-4E10BDAE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3E78C-D731-4ADA-B20B-2421127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FBE-AFF3-4C42-8286-29AD300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8BFC4-AB83-4C83-B78F-9A58164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F2CD6-CF2F-4CA5-A586-964AEEA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CCE81-6EBD-4106-8A24-A4318C9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077CC-169C-4FE8-95E6-06FC907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B5D89-A9F1-41D9-838A-5B4AAC8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134F7-1FC8-4309-B08F-0F1C44D6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2CF0C-A9D7-4756-8BA4-6AA28F3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4296D-926E-4A19-9C86-8CA99841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64A4D-C1B8-4AC7-8F87-AB418F2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F2BE2-7ACC-47E9-B570-787A72C9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A98-D1CF-4556-954B-DAECECC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C008B-11B7-4E9D-9496-50C111DC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52F33-F99B-4EDA-A74B-2CEABCB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EB7DA-F642-4719-8322-DD34CCB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39754B-4C7C-4B08-B8F1-7AE77C6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AAA4D-A613-4E0A-8E0C-4084E98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4122E-89BB-4EB7-84D2-6126FA1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F60FD-2D48-4CE2-9887-07DABBB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52D3B-AABA-4B09-A66B-7396AC56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3867A-B0AA-4ABF-8E97-631D488F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491B2-3C76-4F66-884A-9AC96C41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2011-8E58-4A6F-9741-EABD282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C0DE0-B0E4-4DB9-B77B-B5CDCEB0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6892A-9CBE-4415-965D-5964204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D017E-4F5E-43C5-9EDB-0F829FE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EE54C-1855-4E13-BD03-9546677E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AA224-E225-45AC-93B7-6686325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168BF-73B1-45AA-98DE-240A521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63067-46DE-4746-B064-67C8721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BF13C-22F7-445F-AB44-83E8775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D7691-7A00-4B7A-A370-063AF23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AA330-F67F-45E0-B561-788F1554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0537-D463-4B13-86DE-FF165BBC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B479E-DF63-41B8-B1B5-9E10BE3F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05351-6A15-43EC-8217-C992FB2D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D894C-0B13-4A1F-9508-881F124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1AB2B-6F7D-4ED2-9132-A51DCE2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8C810F-E54F-47C6-939C-FC42011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2C4CD-73F8-48C2-90F9-7D9F907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5431F-AB20-4BBC-967D-EFFE387E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10103-3AD9-4F62-966B-D21416C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73F8C-C32B-4961-8974-5211434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16B34-1AFF-43BE-9ECE-D3F9ACA7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5B1E-3300-46C3-8071-AEF57BC6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BFC34-1189-47DA-9FA0-1C0C17A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505A6-ADF4-41EA-BD70-D04644C2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E3552-C49A-41F4-9E3D-0666BD45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C67A-1BA9-4E97-9991-A9D4C570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31B6-291E-4AB7-B0E0-ADBF028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BD8B-FF81-48E3-840C-6E5F0399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A07C-7E9D-4F9B-B7F6-000384D0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1E3-70FA-4E08-85AB-FB5B1AAD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C32B-E8AB-4B30-97CB-5C687F4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3965-72CA-40F7-A210-406B8E6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A3F4-6AF7-4059-BB0B-C689CAD5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95B5-9AFD-4BCA-BC3D-295739F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9B47-07CB-4BAA-8169-2C8F2B9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1EB3-931C-49BB-B747-AB63B5C6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F1EE-36E8-4CB9-87CF-6F8D099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ADC2-7E2B-4E6A-AD58-FD3896B9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B85D-A8BC-403E-A8A7-9E885E4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F734-0734-4FB2-82F9-EE19530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4A9-2625-4ADF-A6C0-4DED9CF1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4F45-65DC-44DB-BC74-5B0400A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9177-06DE-4F04-8AE6-4EBD9C0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8E73-F79D-4A03-9CE9-3872329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04A2-CE61-4974-85C2-9549822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02BF-FBBB-40AB-9D51-2E66DE0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E6B4-1F83-405D-BFE7-A6EE89A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05E3-6079-4DEF-B343-0D58858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4A5F-925D-4F27-8AA1-83EC032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BB47-F742-4AFF-A023-BD29F770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A1C5-0267-406F-B9CA-C307ABA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E47-855B-4FD1-9A1C-3D4D0407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A15F5-241B-4E30-AAB9-1A11B57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6543-E272-4EF7-A8E9-9C5945D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2C1C-64FB-4770-9521-9CA89038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35D1-EFB8-4653-89B6-A0382A2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AB5F-8A0A-4982-9AEB-60A8954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4563-7C99-4788-BDCB-3ABC927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9BDB-EAC1-4875-A470-C418B08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1CDE-50E8-4D66-B581-E13BCCA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A9AB-8377-4DFA-9297-12F722C2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6271-754D-4952-9DFD-947F6CE0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8D6-1C14-48E7-AD75-82D5437C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61DA-3DDC-4160-BC12-5AF9E215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3C29-19C7-4E1E-84E4-ECCCFB87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BC7E7-39EE-4426-B211-4533BF7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EC1D-5732-4346-8A95-E41AED3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9123-0D7E-4ECE-9390-BFFC4BB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9928D-BE19-4034-B682-F33E7BB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C2F8-8FD6-460E-9D29-E8677531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9295-B514-4E4E-991F-86F7351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569E-7545-46E0-A0D3-41EAC52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9AF5-6BD8-4000-8B12-B55CE3D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048-4C71-47A8-949E-2C038C1A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00E7-8C30-4F36-B0CC-31F13AB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40BD-E42D-4DDC-99AC-8B4F9369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9E54-373E-4114-A7E0-1A0EB843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1888-B2BA-48D9-B53F-699D6BF6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47CEB-B02B-4476-A841-6278FD90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C808-6986-4FFB-9CDF-E76D87A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20ED-59D2-4A82-86D8-B01F1519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E17F-802A-43C2-808D-4EC24D9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1AFB-20F6-473F-B0BE-309C0920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8699B-89B3-48E5-A8B9-6A14168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06A-02E9-4EA1-A189-1B6E761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8BDB-5ADC-4718-9947-C257BB92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36C9-F59F-4F97-B3A8-202F45D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5207-293B-4555-AD03-843FC30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CA9FA-844A-41E4-BC33-EE58135E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FA5B-7456-4A25-9614-261A6960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102D-4F55-4B17-A22D-9766EB04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3D666-048A-41B7-860F-CCA2D776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BCEE6-920A-43F2-A54A-E4E548A4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C57AE-9C69-4CC8-86F0-BD209BE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B9DCD-AE49-404C-9D16-C20C5A0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930-63A0-4E81-A1DF-9BA5216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2FF80-F720-478D-8B0E-86D9FA46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8ED6-FB43-4E39-A230-88C52EC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4A7A4-BADF-44A4-AE28-C2F4253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99B1-34C9-45E4-9F9E-C6A95F1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696C-8F39-467F-B74D-1A81A91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9E29-2143-440B-864C-B16F3B65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A585-621C-4F9B-943C-200D9803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CBCF6-EB7E-49CA-BFB1-172D9D4B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A2A8C-7FE4-4257-BEBB-9170BD0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ACBB-B339-452E-8C08-B5CE43CD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2BE-FB90-4CF9-B1C8-3411C49E9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677-F599-4F11-8F79-F026F6F980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A8D-5D1B-49F9-938C-F791BCAD2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9A03-CCE1-412D-A10F-38CCA37ED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7B0-3650-4894-A618-1D487FFC7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48A-3250-4E77-B3D9-42F7CC4AF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E469-5F96-4B98-9C48-97C2D0BBB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022-B90E-4EEE-A70E-327455A91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81F-B47D-4AAD-BC7F-4E541603C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84D4-092F-4275-BD7F-E1A3EFD7C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D3D-2968-4BB6-A1BE-C8C7A47E0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8CA-3CD3-4ADA-848C-AC5804B00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53F5-731F-46E9-9CCD-F16B9A2BC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898-4A28-497A-BA9C-6AA953FE8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393-E7D7-43B2-BB6B-A12FDA13A7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1D1-1424-4454-BE76-321696C819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E18-AC8D-44E5-B460-B7521B2EC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66B-B0AB-4578-80B1-1AC5AEBC24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7F9B-E701-4E22-8033-F7E3B30927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35F-EE4E-4FA2-A137-5B4181F38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0AE-D1D0-41C1-8A43-92CD2AA8D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57C-A351-4B02-BA46-CD041A618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C66-2A33-4A4E-91EB-E4B491D2A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885-7019-4D4F-AF4C-0489C649A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689-868C-4D6C-BF7A-367508B02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1CE-96FC-4AC4-8DC8-781F80E6A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E58C-9E8E-4F52-B316-BC395000D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814-002D-4C5C-9AF8-D25BA5D9F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751-B820-4121-A205-1DCD4FA7BA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2A46-2652-4441-9716-EE45287E3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C75-C223-48F5-9566-D9035FC205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FC30-66A1-4B52-A598-B070D0604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E64-643E-4A88-89D7-73B9BC35A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8DCC-3E50-457D-A86B-8DF45530A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0AB-9406-4078-B992-D294FEDA56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8FF-6B69-4CCC-AB36-095ECBEE2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6CB-A621-41FC-B89D-2A022BAE3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B095-5044-483F-B8C9-F681D95DE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4C5-A81F-4EB4-B569-738A8B0E58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AD1-76D6-4BFD-BDEE-8D655B874B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1280" y="3205080"/>
            <a:ext cx="378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571680" y="757080"/>
            <a:ext cx="8001000" cy="5696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60640" y="1422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70360" y="184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860640" y="2276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860640" y="2689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648560" y="1413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648560" y="184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648560" y="2276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648560" y="2698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62728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49236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35600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21964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08472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94836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781200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60445" descr=""/>
          <p:cNvPicPr/>
          <p:nvPr/>
        </p:nvPicPr>
        <p:blipFill>
          <a:blip r:embed="rId17"/>
          <a:stretch/>
        </p:blipFill>
        <p:spPr>
          <a:xfrm>
            <a:off x="4446720" y="545004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60446" descr=""/>
          <p:cNvPicPr/>
          <p:nvPr/>
        </p:nvPicPr>
        <p:blipFill>
          <a:blip r:embed="rId18"/>
          <a:stretch/>
        </p:blipFill>
        <p:spPr>
          <a:xfrm>
            <a:off x="4427640" y="595296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7" descr=""/>
          <p:cNvPicPr/>
          <p:nvPr/>
        </p:nvPicPr>
        <p:blipFill>
          <a:blip r:embed="rId19"/>
          <a:stretch/>
        </p:blipFill>
        <p:spPr>
          <a:xfrm>
            <a:off x="6804000" y="5967360"/>
            <a:ext cx="16556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176040" y="824040"/>
            <a:ext cx="8791920" cy="562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322880" y="564192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9412" descr=""/>
          <p:cNvPicPr/>
          <p:nvPr/>
        </p:nvPicPr>
        <p:blipFill>
          <a:blip r:embed="rId3"/>
          <a:stretch/>
        </p:blipFill>
        <p:spPr>
          <a:xfrm>
            <a:off x="2320920" y="5584680"/>
            <a:ext cx="1727280" cy="393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8388360" y="3141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8504280" y="35481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8494560" y="39625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8388360" y="4365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8504280" y="47815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8494560" y="52102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8485200" y="5599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8379000" y="6040440"/>
            <a:ext cx="3394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2:4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